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7DA-DB21-4D26-95F4-CEA9881D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89F-5781-4DEC-A690-4DE4FBDA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6E34-765B-4ADD-A4E6-86D9E845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1A2-972B-482E-B94C-3411325C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EF29-48D5-43FB-90BD-B80F7EE5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F6AA-8A8F-4135-B394-93A3B521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89BD-ECCA-4A90-BB77-BA30FAC4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4826-A5E2-464B-A7B3-E8F53B88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FB39-3ACC-4191-9093-1203AD58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7CDB-14FD-4F00-AC2A-F4A7D9FD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EAC5-7AB2-45D2-826E-00C27D7C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8F97-71EA-420D-9BC7-8DA6517E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E9E6-BAE6-44B3-98F5-4AA1B7F1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C7F0-BCD3-45BF-874C-F6E5EF8E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E7D4-4BAF-4782-B36F-6EE695DC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5921-2EBA-4130-AEC9-C35967F1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C44D-D5AA-4451-803D-0325AAE2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758-4199-41EC-9E5F-7568A620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050-EE29-494E-B018-E7B9BCBD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5BFC-602A-49E8-B64E-06ACDCF0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46F-FE9E-45D4-8BB0-B7A2713E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C4C2-F048-4A81-9B8A-CE8979FF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FE83-C4AC-4AEE-9F2C-D76AF4A8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9CF-E856-40F9-A99E-71D0DEC5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CAAB-E681-4A5F-8E32-F6934C3EDD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F6E5-D090-43E5-9A61-9765A68CF70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9933"/>
                </a:solidFill>
                <a:latin typeface="Arial Black"/>
              </a:rPr>
              <a:t>ЛЕКСИКА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мони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а одной и той же части речи, одинаковые по звучанию и написанию, но разные по лексическому знач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монимы следуют отличить от других слов, совпадающих по написанию (з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к и за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;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ган и орг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; 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 и мук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) и произношению (пруд и прут; ожог и ожег), а также от слов, совпадающих по произношению и написанию в косвенных формах (стекла(стекло) и стекла (стечь)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стичная (или неполная) омонимия харак-ся тем, что разные по значению слова совпадают по звучанию и написанию не во всех грамматических формах. Признаками омонимии обладают также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моформы, омофоны, омограф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7956720" y="6453360"/>
            <a:ext cx="936360" cy="404640"/>
          </a:xfrm>
          <a:custGeom>
            <a:avLst/>
            <a:gdLst>
              <a:gd name="textAreaLeft" fmla="*/ 25920 w 936360"/>
              <a:gd name="textAreaRight" fmla="*/ 910440 w 93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9958" h="21600">
                <a:moveTo>
                  <a:pt x="0" y="0"/>
                </a:moveTo>
                <a:lnTo>
                  <a:pt x="49958" y="0"/>
                </a:lnTo>
                <a:lnTo>
                  <a:pt x="49958" y="21600"/>
                </a:lnTo>
                <a:lnTo>
                  <a:pt x="0" y="21600"/>
                </a:lnTo>
                <a:close/>
              </a:path>
              <a:path fill="lightenLess" w="49958" h="21600">
                <a:moveTo>
                  <a:pt x="0" y="0"/>
                </a:moveTo>
                <a:lnTo>
                  <a:pt x="49958" y="0"/>
                </a:lnTo>
                <a:lnTo>
                  <a:pt x="48558" y="1400"/>
                </a:lnTo>
                <a:lnTo>
                  <a:pt x="1400" y="1400"/>
                </a:lnTo>
                <a:close/>
              </a:path>
              <a:path fill="darken" w="49958" h="21600">
                <a:moveTo>
                  <a:pt x="49958" y="0"/>
                </a:moveTo>
                <a:lnTo>
                  <a:pt x="49958" y="21600"/>
                </a:lnTo>
                <a:lnTo>
                  <a:pt x="48558" y="20200"/>
                </a:lnTo>
                <a:lnTo>
                  <a:pt x="48558" y="1400"/>
                </a:lnTo>
                <a:close/>
              </a:path>
              <a:path fill="darkenLess" w="49958" h="21600">
                <a:moveTo>
                  <a:pt x="49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58" y="20200"/>
                </a:lnTo>
                <a:close/>
              </a:path>
              <a:path fill="lighten" w="49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>
            <a:hlinkClick r:id="" action="ppaction://hlinkshowjump?jump=endshow"/>
          </p:cNvPr>
          <p:cNvSpPr/>
          <p:nvPr/>
        </p:nvSpPr>
        <p:spPr>
          <a:xfrm>
            <a:off x="6877080" y="6453360"/>
            <a:ext cx="1081080" cy="404640"/>
          </a:xfrm>
          <a:custGeom>
            <a:avLst/>
            <a:gdLst>
              <a:gd name="textAreaLeft" fmla="*/ 25920 w 1081080"/>
              <a:gd name="textAreaRight" fmla="*/ 1055160 w 1081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7677" h="21600">
                <a:moveTo>
                  <a:pt x="0" y="0"/>
                </a:moveTo>
                <a:lnTo>
                  <a:pt x="57677" y="0"/>
                </a:lnTo>
                <a:lnTo>
                  <a:pt x="57677" y="21600"/>
                </a:lnTo>
                <a:lnTo>
                  <a:pt x="0" y="21600"/>
                </a:lnTo>
                <a:close/>
              </a:path>
              <a:path fill="lightenLess" w="57677" h="21600">
                <a:moveTo>
                  <a:pt x="0" y="0"/>
                </a:moveTo>
                <a:lnTo>
                  <a:pt x="57677" y="0"/>
                </a:lnTo>
                <a:lnTo>
                  <a:pt x="56277" y="1400"/>
                </a:lnTo>
                <a:lnTo>
                  <a:pt x="1400" y="1400"/>
                </a:lnTo>
                <a:close/>
              </a:path>
              <a:path fill="darken" w="57677" h="21600">
                <a:moveTo>
                  <a:pt x="57677" y="0"/>
                </a:moveTo>
                <a:lnTo>
                  <a:pt x="57677" y="21600"/>
                </a:lnTo>
                <a:lnTo>
                  <a:pt x="56277" y="20200"/>
                </a:lnTo>
                <a:lnTo>
                  <a:pt x="56277" y="1400"/>
                </a:lnTo>
                <a:close/>
              </a:path>
              <a:path fill="darkenLess" w="57677" h="21600">
                <a:moveTo>
                  <a:pt x="57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77" y="20200"/>
                </a:lnTo>
                <a:close/>
              </a:path>
              <a:path fill="lighten" w="57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77" h="21600">
                <a:moveTo>
                  <a:pt x="28838" y="3837"/>
                </a:moveTo>
                <a:lnTo>
                  <a:pt x="31415" y="6448"/>
                </a:lnTo>
                <a:lnTo>
                  <a:pt x="31415" y="4707"/>
                </a:lnTo>
                <a:lnTo>
                  <a:pt x="33190" y="4707"/>
                </a:lnTo>
                <a:lnTo>
                  <a:pt x="33190" y="8224"/>
                </a:lnTo>
                <a:lnTo>
                  <a:pt x="35801" y="10800"/>
                </a:lnTo>
                <a:lnTo>
                  <a:pt x="34148" y="10800"/>
                </a:lnTo>
                <a:lnTo>
                  <a:pt x="34148" y="17989"/>
                </a:lnTo>
                <a:lnTo>
                  <a:pt x="23529" y="17989"/>
                </a:lnTo>
                <a:lnTo>
                  <a:pt x="23529" y="10800"/>
                </a:lnTo>
                <a:lnTo>
                  <a:pt x="21875" y="10800"/>
                </a:lnTo>
                <a:close/>
              </a:path>
              <a:path fill="darkenLess" w="57677" h="21600">
                <a:moveTo>
                  <a:pt x="31415" y="6448"/>
                </a:moveTo>
                <a:lnTo>
                  <a:pt x="31415" y="4707"/>
                </a:lnTo>
                <a:lnTo>
                  <a:pt x="33190" y="4707"/>
                </a:lnTo>
                <a:lnTo>
                  <a:pt x="33190" y="8224"/>
                </a:lnTo>
                <a:close/>
              </a:path>
              <a:path fill="darkenLess" w="57677" h="21600">
                <a:moveTo>
                  <a:pt x="27916" y="14299"/>
                </a:moveTo>
                <a:lnTo>
                  <a:pt x="29761" y="14299"/>
                </a:lnTo>
                <a:lnTo>
                  <a:pt x="29761" y="17989"/>
                </a:lnTo>
                <a:lnTo>
                  <a:pt x="34148" y="17989"/>
                </a:lnTo>
                <a:lnTo>
                  <a:pt x="34148" y="10800"/>
                </a:lnTo>
                <a:lnTo>
                  <a:pt x="23529" y="10800"/>
                </a:lnTo>
                <a:lnTo>
                  <a:pt x="23529" y="17989"/>
                </a:lnTo>
                <a:lnTo>
                  <a:pt x="27916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3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8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нони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4502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ва одной части речи, обозначающие одно и то же, но отличающиеся друг от друга оттенками лексического значения и употребления их в реч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нонимы составляют синонимический ряд. Один из синонимов является основным, главны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-р: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красивый – обаятельный, очаровательный, неотразимый; гармония - благозвуч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7956720" y="6453360"/>
            <a:ext cx="936360" cy="404640"/>
          </a:xfrm>
          <a:custGeom>
            <a:avLst/>
            <a:gdLst>
              <a:gd name="textAreaLeft" fmla="*/ 25920 w 936360"/>
              <a:gd name="textAreaRight" fmla="*/ 910440 w 93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9958" h="21600">
                <a:moveTo>
                  <a:pt x="0" y="0"/>
                </a:moveTo>
                <a:lnTo>
                  <a:pt x="49958" y="0"/>
                </a:lnTo>
                <a:lnTo>
                  <a:pt x="49958" y="21600"/>
                </a:lnTo>
                <a:lnTo>
                  <a:pt x="0" y="21600"/>
                </a:lnTo>
                <a:close/>
              </a:path>
              <a:path fill="lightenLess" w="49958" h="21600">
                <a:moveTo>
                  <a:pt x="0" y="0"/>
                </a:moveTo>
                <a:lnTo>
                  <a:pt x="49958" y="0"/>
                </a:lnTo>
                <a:lnTo>
                  <a:pt x="48558" y="1400"/>
                </a:lnTo>
                <a:lnTo>
                  <a:pt x="1400" y="1400"/>
                </a:lnTo>
                <a:close/>
              </a:path>
              <a:path fill="darken" w="49958" h="21600">
                <a:moveTo>
                  <a:pt x="49958" y="0"/>
                </a:moveTo>
                <a:lnTo>
                  <a:pt x="49958" y="21600"/>
                </a:lnTo>
                <a:lnTo>
                  <a:pt x="48558" y="20200"/>
                </a:lnTo>
                <a:lnTo>
                  <a:pt x="48558" y="1400"/>
                </a:lnTo>
                <a:close/>
              </a:path>
              <a:path fill="darkenLess" w="49958" h="21600">
                <a:moveTo>
                  <a:pt x="49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58" y="20200"/>
                </a:lnTo>
                <a:close/>
              </a:path>
              <a:path fill="lighten" w="49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5">
            <a:hlinkClick r:id="" action="ppaction://hlinkshowjump?jump=endshow"/>
          </p:cNvPr>
          <p:cNvSpPr/>
          <p:nvPr/>
        </p:nvSpPr>
        <p:spPr>
          <a:xfrm>
            <a:off x="6948360" y="6453360"/>
            <a:ext cx="1081080" cy="404640"/>
          </a:xfrm>
          <a:custGeom>
            <a:avLst/>
            <a:gdLst>
              <a:gd name="textAreaLeft" fmla="*/ 25920 w 1081080"/>
              <a:gd name="textAreaRight" fmla="*/ 1055160 w 1081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7677" h="21600">
                <a:moveTo>
                  <a:pt x="0" y="0"/>
                </a:moveTo>
                <a:lnTo>
                  <a:pt x="57677" y="0"/>
                </a:lnTo>
                <a:lnTo>
                  <a:pt x="57677" y="21600"/>
                </a:lnTo>
                <a:lnTo>
                  <a:pt x="0" y="21600"/>
                </a:lnTo>
                <a:close/>
              </a:path>
              <a:path fill="lightenLess" w="57677" h="21600">
                <a:moveTo>
                  <a:pt x="0" y="0"/>
                </a:moveTo>
                <a:lnTo>
                  <a:pt x="57677" y="0"/>
                </a:lnTo>
                <a:lnTo>
                  <a:pt x="56277" y="1400"/>
                </a:lnTo>
                <a:lnTo>
                  <a:pt x="1400" y="1400"/>
                </a:lnTo>
                <a:close/>
              </a:path>
              <a:path fill="darken" w="57677" h="21600">
                <a:moveTo>
                  <a:pt x="57677" y="0"/>
                </a:moveTo>
                <a:lnTo>
                  <a:pt x="57677" y="21600"/>
                </a:lnTo>
                <a:lnTo>
                  <a:pt x="56277" y="20200"/>
                </a:lnTo>
                <a:lnTo>
                  <a:pt x="56277" y="1400"/>
                </a:lnTo>
                <a:close/>
              </a:path>
              <a:path fill="darkenLess" w="57677" h="21600">
                <a:moveTo>
                  <a:pt x="57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77" y="20200"/>
                </a:lnTo>
                <a:close/>
              </a:path>
              <a:path fill="lighten" w="57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77" h="21600">
                <a:moveTo>
                  <a:pt x="28838" y="3837"/>
                </a:moveTo>
                <a:lnTo>
                  <a:pt x="31415" y="6448"/>
                </a:lnTo>
                <a:lnTo>
                  <a:pt x="31415" y="4707"/>
                </a:lnTo>
                <a:lnTo>
                  <a:pt x="33190" y="4707"/>
                </a:lnTo>
                <a:lnTo>
                  <a:pt x="33190" y="8224"/>
                </a:lnTo>
                <a:lnTo>
                  <a:pt x="35801" y="10800"/>
                </a:lnTo>
                <a:lnTo>
                  <a:pt x="34148" y="10800"/>
                </a:lnTo>
                <a:lnTo>
                  <a:pt x="34148" y="17989"/>
                </a:lnTo>
                <a:lnTo>
                  <a:pt x="23529" y="17989"/>
                </a:lnTo>
                <a:lnTo>
                  <a:pt x="23529" y="10800"/>
                </a:lnTo>
                <a:lnTo>
                  <a:pt x="21875" y="10800"/>
                </a:lnTo>
                <a:close/>
              </a:path>
              <a:path fill="darkenLess" w="57677" h="21600">
                <a:moveTo>
                  <a:pt x="31415" y="6448"/>
                </a:moveTo>
                <a:lnTo>
                  <a:pt x="31415" y="4707"/>
                </a:lnTo>
                <a:lnTo>
                  <a:pt x="33190" y="4707"/>
                </a:lnTo>
                <a:lnTo>
                  <a:pt x="33190" y="8224"/>
                </a:lnTo>
                <a:close/>
              </a:path>
              <a:path fill="darkenLess" w="57677" h="21600">
                <a:moveTo>
                  <a:pt x="27916" y="14299"/>
                </a:moveTo>
                <a:lnTo>
                  <a:pt x="29761" y="14299"/>
                </a:lnTo>
                <a:lnTo>
                  <a:pt x="29761" y="17989"/>
                </a:lnTo>
                <a:lnTo>
                  <a:pt x="34148" y="17989"/>
                </a:lnTo>
                <a:lnTo>
                  <a:pt x="34148" y="10800"/>
                </a:lnTo>
                <a:lnTo>
                  <a:pt x="23529" y="10800"/>
                </a:lnTo>
                <a:lnTo>
                  <a:pt x="23529" y="17989"/>
                </a:lnTo>
                <a:lnTo>
                  <a:pt x="27916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нтони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ва одной и той же части речи с противоположным лексическим значением. Н-р: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говорить – молчать; свежий журнал – старый журнал; чистый – гряз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7956720" y="6453360"/>
            <a:ext cx="936360" cy="404640"/>
          </a:xfrm>
          <a:custGeom>
            <a:avLst/>
            <a:gdLst>
              <a:gd name="textAreaLeft" fmla="*/ 25920 w 936360"/>
              <a:gd name="textAreaRight" fmla="*/ 910440 w 93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9958" h="21600">
                <a:moveTo>
                  <a:pt x="0" y="0"/>
                </a:moveTo>
                <a:lnTo>
                  <a:pt x="49958" y="0"/>
                </a:lnTo>
                <a:lnTo>
                  <a:pt x="49958" y="21600"/>
                </a:lnTo>
                <a:lnTo>
                  <a:pt x="0" y="21600"/>
                </a:lnTo>
                <a:close/>
              </a:path>
              <a:path fill="lightenLess" w="49958" h="21600">
                <a:moveTo>
                  <a:pt x="0" y="0"/>
                </a:moveTo>
                <a:lnTo>
                  <a:pt x="49958" y="0"/>
                </a:lnTo>
                <a:lnTo>
                  <a:pt x="48558" y="1400"/>
                </a:lnTo>
                <a:lnTo>
                  <a:pt x="1400" y="1400"/>
                </a:lnTo>
                <a:close/>
              </a:path>
              <a:path fill="darken" w="49958" h="21600">
                <a:moveTo>
                  <a:pt x="49958" y="0"/>
                </a:moveTo>
                <a:lnTo>
                  <a:pt x="49958" y="21600"/>
                </a:lnTo>
                <a:lnTo>
                  <a:pt x="48558" y="20200"/>
                </a:lnTo>
                <a:lnTo>
                  <a:pt x="48558" y="1400"/>
                </a:lnTo>
                <a:close/>
              </a:path>
              <a:path fill="darkenLess" w="49958" h="21600">
                <a:moveTo>
                  <a:pt x="49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58" y="20200"/>
                </a:lnTo>
                <a:close/>
              </a:path>
              <a:path fill="lighten" w="49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5">
            <a:hlinkClick r:id="" action="ppaction://hlinkshowjump?jump=endshow"/>
          </p:cNvPr>
          <p:cNvSpPr/>
          <p:nvPr/>
        </p:nvSpPr>
        <p:spPr>
          <a:xfrm>
            <a:off x="6877080" y="6453360"/>
            <a:ext cx="1081080" cy="404640"/>
          </a:xfrm>
          <a:custGeom>
            <a:avLst/>
            <a:gdLst>
              <a:gd name="textAreaLeft" fmla="*/ 25920 w 1081080"/>
              <a:gd name="textAreaRight" fmla="*/ 1055160 w 1081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7677" h="21600">
                <a:moveTo>
                  <a:pt x="0" y="0"/>
                </a:moveTo>
                <a:lnTo>
                  <a:pt x="57677" y="0"/>
                </a:lnTo>
                <a:lnTo>
                  <a:pt x="57677" y="21600"/>
                </a:lnTo>
                <a:lnTo>
                  <a:pt x="0" y="21600"/>
                </a:lnTo>
                <a:close/>
              </a:path>
              <a:path fill="lightenLess" w="57677" h="21600">
                <a:moveTo>
                  <a:pt x="0" y="0"/>
                </a:moveTo>
                <a:lnTo>
                  <a:pt x="57677" y="0"/>
                </a:lnTo>
                <a:lnTo>
                  <a:pt x="56277" y="1400"/>
                </a:lnTo>
                <a:lnTo>
                  <a:pt x="1400" y="1400"/>
                </a:lnTo>
                <a:close/>
              </a:path>
              <a:path fill="darken" w="57677" h="21600">
                <a:moveTo>
                  <a:pt x="57677" y="0"/>
                </a:moveTo>
                <a:lnTo>
                  <a:pt x="57677" y="21600"/>
                </a:lnTo>
                <a:lnTo>
                  <a:pt x="56277" y="20200"/>
                </a:lnTo>
                <a:lnTo>
                  <a:pt x="56277" y="1400"/>
                </a:lnTo>
                <a:close/>
              </a:path>
              <a:path fill="darkenLess" w="57677" h="21600">
                <a:moveTo>
                  <a:pt x="57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77" y="20200"/>
                </a:lnTo>
                <a:close/>
              </a:path>
              <a:path fill="lighten" w="57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77" h="21600">
                <a:moveTo>
                  <a:pt x="28838" y="3837"/>
                </a:moveTo>
                <a:lnTo>
                  <a:pt x="31415" y="6448"/>
                </a:lnTo>
                <a:lnTo>
                  <a:pt x="31415" y="4707"/>
                </a:lnTo>
                <a:lnTo>
                  <a:pt x="33190" y="4707"/>
                </a:lnTo>
                <a:lnTo>
                  <a:pt x="33190" y="8224"/>
                </a:lnTo>
                <a:lnTo>
                  <a:pt x="35801" y="10800"/>
                </a:lnTo>
                <a:lnTo>
                  <a:pt x="34148" y="10800"/>
                </a:lnTo>
                <a:lnTo>
                  <a:pt x="34148" y="17989"/>
                </a:lnTo>
                <a:lnTo>
                  <a:pt x="23529" y="17989"/>
                </a:lnTo>
                <a:lnTo>
                  <a:pt x="23529" y="10800"/>
                </a:lnTo>
                <a:lnTo>
                  <a:pt x="21875" y="10800"/>
                </a:lnTo>
                <a:close/>
              </a:path>
              <a:path fill="darkenLess" w="57677" h="21600">
                <a:moveTo>
                  <a:pt x="31415" y="6448"/>
                </a:moveTo>
                <a:lnTo>
                  <a:pt x="31415" y="4707"/>
                </a:lnTo>
                <a:lnTo>
                  <a:pt x="33190" y="4707"/>
                </a:lnTo>
                <a:lnTo>
                  <a:pt x="33190" y="8224"/>
                </a:lnTo>
                <a:close/>
              </a:path>
              <a:path fill="darkenLess" w="57677" h="21600">
                <a:moveTo>
                  <a:pt x="27916" y="14299"/>
                </a:moveTo>
                <a:lnTo>
                  <a:pt x="29761" y="14299"/>
                </a:lnTo>
                <a:lnTo>
                  <a:pt x="29761" y="17989"/>
                </a:lnTo>
                <a:lnTo>
                  <a:pt x="34148" y="17989"/>
                </a:lnTo>
                <a:lnTo>
                  <a:pt x="34148" y="10800"/>
                </a:lnTo>
                <a:lnTo>
                  <a:pt x="23529" y="10800"/>
                </a:lnTo>
                <a:lnTo>
                  <a:pt x="23529" y="17989"/>
                </a:lnTo>
                <a:lnTo>
                  <a:pt x="27916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разеологиз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412640"/>
            <a:ext cx="8007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ойчивое сочетание слов, используемое для называния отдельных предметов, признаков, действий. Лексическое значение имеет ф. в целом: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ить баклуши – «бездельничать»; за три девять земель – «далек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Ф. является одним членом предлож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меет синонимы, антонимы. Н-р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нонимы: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на краю света, куда ворон костей не заносил;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тонимы: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озносить до небес- втаптывать в гряз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спользуются в обыденной речи, худ. Произведения, публицистике. Они придают высказыванию выразительность, служат средством создания образ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7956720" y="6453360"/>
            <a:ext cx="936360" cy="404640"/>
          </a:xfrm>
          <a:custGeom>
            <a:avLst/>
            <a:gdLst>
              <a:gd name="textAreaLeft" fmla="*/ 25920 w 936360"/>
              <a:gd name="textAreaRight" fmla="*/ 910440 w 93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9958" h="21600">
                <a:moveTo>
                  <a:pt x="0" y="0"/>
                </a:moveTo>
                <a:lnTo>
                  <a:pt x="49958" y="0"/>
                </a:lnTo>
                <a:lnTo>
                  <a:pt x="49958" y="21600"/>
                </a:lnTo>
                <a:lnTo>
                  <a:pt x="0" y="21600"/>
                </a:lnTo>
                <a:close/>
              </a:path>
              <a:path fill="lightenLess" w="49958" h="21600">
                <a:moveTo>
                  <a:pt x="0" y="0"/>
                </a:moveTo>
                <a:lnTo>
                  <a:pt x="49958" y="0"/>
                </a:lnTo>
                <a:lnTo>
                  <a:pt x="48558" y="1400"/>
                </a:lnTo>
                <a:lnTo>
                  <a:pt x="1400" y="1400"/>
                </a:lnTo>
                <a:close/>
              </a:path>
              <a:path fill="darken" w="49958" h="21600">
                <a:moveTo>
                  <a:pt x="49958" y="0"/>
                </a:moveTo>
                <a:lnTo>
                  <a:pt x="49958" y="21600"/>
                </a:lnTo>
                <a:lnTo>
                  <a:pt x="48558" y="20200"/>
                </a:lnTo>
                <a:lnTo>
                  <a:pt x="48558" y="1400"/>
                </a:lnTo>
                <a:close/>
              </a:path>
              <a:path fill="darkenLess" w="49958" h="21600">
                <a:moveTo>
                  <a:pt x="49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58" y="20200"/>
                </a:lnTo>
                <a:close/>
              </a:path>
              <a:path fill="lighten" w="49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5">
            <a:hlinkClick r:id="" action="ppaction://hlinkshowjump?jump=endshow"/>
          </p:cNvPr>
          <p:cNvSpPr/>
          <p:nvPr/>
        </p:nvSpPr>
        <p:spPr>
          <a:xfrm>
            <a:off x="6877080" y="6453360"/>
            <a:ext cx="1081080" cy="404640"/>
          </a:xfrm>
          <a:custGeom>
            <a:avLst/>
            <a:gdLst>
              <a:gd name="textAreaLeft" fmla="*/ 25920 w 1081080"/>
              <a:gd name="textAreaRight" fmla="*/ 1055160 w 1081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7677" h="21600">
                <a:moveTo>
                  <a:pt x="0" y="0"/>
                </a:moveTo>
                <a:lnTo>
                  <a:pt x="57677" y="0"/>
                </a:lnTo>
                <a:lnTo>
                  <a:pt x="57677" y="21600"/>
                </a:lnTo>
                <a:lnTo>
                  <a:pt x="0" y="21600"/>
                </a:lnTo>
                <a:close/>
              </a:path>
              <a:path fill="lightenLess" w="57677" h="21600">
                <a:moveTo>
                  <a:pt x="0" y="0"/>
                </a:moveTo>
                <a:lnTo>
                  <a:pt x="57677" y="0"/>
                </a:lnTo>
                <a:lnTo>
                  <a:pt x="56277" y="1400"/>
                </a:lnTo>
                <a:lnTo>
                  <a:pt x="1400" y="1400"/>
                </a:lnTo>
                <a:close/>
              </a:path>
              <a:path fill="darken" w="57677" h="21600">
                <a:moveTo>
                  <a:pt x="57677" y="0"/>
                </a:moveTo>
                <a:lnTo>
                  <a:pt x="57677" y="21600"/>
                </a:lnTo>
                <a:lnTo>
                  <a:pt x="56277" y="20200"/>
                </a:lnTo>
                <a:lnTo>
                  <a:pt x="56277" y="1400"/>
                </a:lnTo>
                <a:close/>
              </a:path>
              <a:path fill="darkenLess" w="57677" h="21600">
                <a:moveTo>
                  <a:pt x="57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77" y="20200"/>
                </a:lnTo>
                <a:close/>
              </a:path>
              <a:path fill="lighten" w="57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77" h="21600">
                <a:moveTo>
                  <a:pt x="28838" y="3837"/>
                </a:moveTo>
                <a:lnTo>
                  <a:pt x="31415" y="6448"/>
                </a:lnTo>
                <a:lnTo>
                  <a:pt x="31415" y="4707"/>
                </a:lnTo>
                <a:lnTo>
                  <a:pt x="33190" y="4707"/>
                </a:lnTo>
                <a:lnTo>
                  <a:pt x="33190" y="8224"/>
                </a:lnTo>
                <a:lnTo>
                  <a:pt x="35801" y="10800"/>
                </a:lnTo>
                <a:lnTo>
                  <a:pt x="34148" y="10800"/>
                </a:lnTo>
                <a:lnTo>
                  <a:pt x="34148" y="17989"/>
                </a:lnTo>
                <a:lnTo>
                  <a:pt x="23529" y="17989"/>
                </a:lnTo>
                <a:lnTo>
                  <a:pt x="23529" y="10800"/>
                </a:lnTo>
                <a:lnTo>
                  <a:pt x="21875" y="10800"/>
                </a:lnTo>
                <a:close/>
              </a:path>
              <a:path fill="darkenLess" w="57677" h="21600">
                <a:moveTo>
                  <a:pt x="31415" y="6448"/>
                </a:moveTo>
                <a:lnTo>
                  <a:pt x="31415" y="4707"/>
                </a:lnTo>
                <a:lnTo>
                  <a:pt x="33190" y="4707"/>
                </a:lnTo>
                <a:lnTo>
                  <a:pt x="33190" y="8224"/>
                </a:lnTo>
                <a:close/>
              </a:path>
              <a:path fill="darkenLess" w="57677" h="21600">
                <a:moveTo>
                  <a:pt x="27916" y="14299"/>
                </a:moveTo>
                <a:lnTo>
                  <a:pt x="29761" y="14299"/>
                </a:lnTo>
                <a:lnTo>
                  <a:pt x="29761" y="17989"/>
                </a:lnTo>
                <a:lnTo>
                  <a:pt x="34148" y="17989"/>
                </a:lnTo>
                <a:lnTo>
                  <a:pt x="34148" y="10800"/>
                </a:lnTo>
                <a:lnTo>
                  <a:pt x="23529" y="10800"/>
                </a:lnTo>
                <a:lnTo>
                  <a:pt x="23529" y="17989"/>
                </a:lnTo>
                <a:lnTo>
                  <a:pt x="27916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ри признака омоним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моформ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овпадение только отдельной формы слов: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лечу (от лечить) – лечу (от летать); мой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тяжат. мест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) – мой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елит.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клонение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гл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 мыт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мофоны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называемые фонетические омонимы (слова, совпадающие по звучанию, но различные по написанию и значению);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ерый волк в густом лесу встретил рыжую лису (С.Маршак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мограф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графические омонимы ( слова пишутся одинаково, но произносятся по – разному, главным образом в зависимости от ударения; иногда в связи с тем, что не всегда употребляются точки над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ё); пое</a:t>
            </a:r>
            <a:r>
              <a:rPr b="0" i="1" lang="ru-RU" sz="2400" spc="-1" strike="noStrike" baseline="66000">
                <a:solidFill>
                  <a:srgbClr val="ffffff"/>
                </a:solidFill>
                <a:latin typeface="Arial"/>
              </a:rPr>
              <a:t>/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 – поём; по</a:t>
            </a:r>
            <a:r>
              <a:rPr b="0" i="1" lang="ru-RU" sz="2400" spc="-1" strike="noStrike" baseline="66000">
                <a:solidFill>
                  <a:srgbClr val="ffffff"/>
                </a:solidFill>
                <a:latin typeface="Arial"/>
              </a:rPr>
              <a:t>/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лет – полёт; а</a:t>
            </a:r>
            <a:r>
              <a:rPr b="0" i="1" lang="ru-RU" sz="2400" spc="-1" strike="noStrike" baseline="66000">
                <a:solidFill>
                  <a:srgbClr val="ffffff"/>
                </a:solidFill>
                <a:latin typeface="Arial"/>
              </a:rPr>
              <a:t>/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лас – атла</a:t>
            </a:r>
            <a:r>
              <a:rPr b="0" i="1" lang="ru-RU" sz="2400" spc="-1" strike="noStrike" baseline="66000">
                <a:solidFill>
                  <a:srgbClr val="ffffff"/>
                </a:solidFill>
                <a:latin typeface="Arial"/>
              </a:rPr>
              <a:t>/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>
            <a:hlinkClick r:id="" action="ppaction://hlinkshowjump?jump=endshow"/>
          </p:cNvPr>
          <p:cNvSpPr/>
          <p:nvPr/>
        </p:nvSpPr>
        <p:spPr>
          <a:xfrm>
            <a:off x="6948360" y="6453360"/>
            <a:ext cx="1081080" cy="404640"/>
          </a:xfrm>
          <a:custGeom>
            <a:avLst/>
            <a:gdLst>
              <a:gd name="textAreaLeft" fmla="*/ 25920 w 1081080"/>
              <a:gd name="textAreaRight" fmla="*/ 1055160 w 1081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7677" h="21600">
                <a:moveTo>
                  <a:pt x="0" y="0"/>
                </a:moveTo>
                <a:lnTo>
                  <a:pt x="57677" y="0"/>
                </a:lnTo>
                <a:lnTo>
                  <a:pt x="57677" y="21600"/>
                </a:lnTo>
                <a:lnTo>
                  <a:pt x="0" y="21600"/>
                </a:lnTo>
                <a:close/>
              </a:path>
              <a:path fill="lightenLess" w="57677" h="21600">
                <a:moveTo>
                  <a:pt x="0" y="0"/>
                </a:moveTo>
                <a:lnTo>
                  <a:pt x="57677" y="0"/>
                </a:lnTo>
                <a:lnTo>
                  <a:pt x="56277" y="1400"/>
                </a:lnTo>
                <a:lnTo>
                  <a:pt x="1400" y="1400"/>
                </a:lnTo>
                <a:close/>
              </a:path>
              <a:path fill="darken" w="57677" h="21600">
                <a:moveTo>
                  <a:pt x="57677" y="0"/>
                </a:moveTo>
                <a:lnTo>
                  <a:pt x="57677" y="21600"/>
                </a:lnTo>
                <a:lnTo>
                  <a:pt x="56277" y="20200"/>
                </a:lnTo>
                <a:lnTo>
                  <a:pt x="56277" y="1400"/>
                </a:lnTo>
                <a:close/>
              </a:path>
              <a:path fill="darkenLess" w="57677" h="21600">
                <a:moveTo>
                  <a:pt x="57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77" y="20200"/>
                </a:lnTo>
                <a:close/>
              </a:path>
              <a:path fill="lighten" w="57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77" h="21600">
                <a:moveTo>
                  <a:pt x="28838" y="3837"/>
                </a:moveTo>
                <a:lnTo>
                  <a:pt x="31415" y="6448"/>
                </a:lnTo>
                <a:lnTo>
                  <a:pt x="31415" y="4707"/>
                </a:lnTo>
                <a:lnTo>
                  <a:pt x="33190" y="4707"/>
                </a:lnTo>
                <a:lnTo>
                  <a:pt x="33190" y="8224"/>
                </a:lnTo>
                <a:lnTo>
                  <a:pt x="35801" y="10800"/>
                </a:lnTo>
                <a:lnTo>
                  <a:pt x="34148" y="10800"/>
                </a:lnTo>
                <a:lnTo>
                  <a:pt x="34148" y="17989"/>
                </a:lnTo>
                <a:lnTo>
                  <a:pt x="23529" y="17989"/>
                </a:lnTo>
                <a:lnTo>
                  <a:pt x="23529" y="10800"/>
                </a:lnTo>
                <a:lnTo>
                  <a:pt x="21875" y="10800"/>
                </a:lnTo>
                <a:close/>
              </a:path>
              <a:path fill="darkenLess" w="57677" h="21600">
                <a:moveTo>
                  <a:pt x="31415" y="6448"/>
                </a:moveTo>
                <a:lnTo>
                  <a:pt x="31415" y="4707"/>
                </a:lnTo>
                <a:lnTo>
                  <a:pt x="33190" y="4707"/>
                </a:lnTo>
                <a:lnTo>
                  <a:pt x="33190" y="8224"/>
                </a:lnTo>
                <a:close/>
              </a:path>
              <a:path fill="darkenLess" w="57677" h="21600">
                <a:moveTo>
                  <a:pt x="27916" y="14299"/>
                </a:moveTo>
                <a:lnTo>
                  <a:pt x="29761" y="14299"/>
                </a:lnTo>
                <a:lnTo>
                  <a:pt x="29761" y="17989"/>
                </a:lnTo>
                <a:lnTo>
                  <a:pt x="34148" y="17989"/>
                </a:lnTo>
                <a:lnTo>
                  <a:pt x="34148" y="10800"/>
                </a:lnTo>
                <a:lnTo>
                  <a:pt x="23529" y="10800"/>
                </a:lnTo>
                <a:lnTo>
                  <a:pt x="23529" y="17989"/>
                </a:lnTo>
                <a:lnTo>
                  <a:pt x="27916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7956720" y="6453360"/>
            <a:ext cx="936360" cy="404640"/>
          </a:xfrm>
          <a:custGeom>
            <a:avLst/>
            <a:gdLst>
              <a:gd name="textAreaLeft" fmla="*/ 25920 w 936360"/>
              <a:gd name="textAreaRight" fmla="*/ 910440 w 93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9958" h="21600">
                <a:moveTo>
                  <a:pt x="0" y="0"/>
                </a:moveTo>
                <a:lnTo>
                  <a:pt x="49958" y="0"/>
                </a:lnTo>
                <a:lnTo>
                  <a:pt x="49958" y="21600"/>
                </a:lnTo>
                <a:lnTo>
                  <a:pt x="0" y="21600"/>
                </a:lnTo>
                <a:close/>
              </a:path>
              <a:path fill="lightenLess" w="49958" h="21600">
                <a:moveTo>
                  <a:pt x="0" y="0"/>
                </a:moveTo>
                <a:lnTo>
                  <a:pt x="49958" y="0"/>
                </a:lnTo>
                <a:lnTo>
                  <a:pt x="48558" y="1400"/>
                </a:lnTo>
                <a:lnTo>
                  <a:pt x="1400" y="1400"/>
                </a:lnTo>
                <a:close/>
              </a:path>
              <a:path fill="darken" w="49958" h="21600">
                <a:moveTo>
                  <a:pt x="49958" y="0"/>
                </a:moveTo>
                <a:lnTo>
                  <a:pt x="49958" y="21600"/>
                </a:lnTo>
                <a:lnTo>
                  <a:pt x="48558" y="20200"/>
                </a:lnTo>
                <a:lnTo>
                  <a:pt x="48558" y="1400"/>
                </a:lnTo>
                <a:close/>
              </a:path>
              <a:path fill="darkenLess" w="49958" h="21600">
                <a:moveTo>
                  <a:pt x="49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58" y="20200"/>
                </a:lnTo>
                <a:close/>
              </a:path>
              <a:path fill="lighten" w="49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Organization Chart 7"/>
          <p:cNvGrpSpPr/>
          <p:nvPr/>
        </p:nvGrpSpPr>
        <p:grpSpPr>
          <a:xfrm>
            <a:off x="179280" y="404640"/>
            <a:ext cx="8461080" cy="5830920"/>
            <a:chOff x="179280" y="404640"/>
            <a:chExt cx="8461080" cy="5830920"/>
          </a:xfrm>
        </p:grpSpPr>
        <p:cxnSp>
          <p:nvCxnSpPr>
            <p:cNvPr id="101" name="_s1028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471280" y="1674360"/>
              <a:ext cx="1166760" cy="3290760"/>
            </a:xfrm>
            <a:prstGeom prst="bentConnector3">
              <a:avLst>
                <a:gd name="adj1" fmla="val 891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1029"/>
            <p:cNvCxnSpPr>
              <a:stCxn id="105" idx="0"/>
              <a:endCxn id="103" idx="2"/>
            </p:cNvCxnSpPr>
            <p:nvPr/>
          </p:nvCxnSpPr>
          <p:spPr>
            <a:xfrm flipV="1" rot="16200000">
              <a:off x="4374720" y="2770920"/>
              <a:ext cx="1166760" cy="1097280"/>
            </a:xfrm>
            <a:prstGeom prst="bentConnector3">
              <a:avLst>
                <a:gd name="adj1" fmla="val 891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6" name="_s1030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3279240" y="2772360"/>
              <a:ext cx="1166760" cy="1095120"/>
            </a:xfrm>
            <a:prstGeom prst="bentConnector3">
              <a:avLst>
                <a:gd name="adj1" fmla="val 891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8" name="_s1031"/>
            <p:cNvCxnSpPr>
              <a:stCxn id="109" idx="0"/>
              <a:endCxn id="103" idx="2"/>
            </p:cNvCxnSpPr>
            <p:nvPr/>
          </p:nvCxnSpPr>
          <p:spPr>
            <a:xfrm flipH="1" flipV="1" rot="5400000">
              <a:off x="2181240" y="1674360"/>
              <a:ext cx="1166760" cy="3291120"/>
            </a:xfrm>
            <a:prstGeom prst="bentConnector3">
              <a:avLst>
                <a:gd name="adj1" fmla="val 891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" name="_s1032"/>
            <p:cNvSpPr/>
            <p:nvPr/>
          </p:nvSpPr>
          <p:spPr>
            <a:xfrm>
              <a:off x="3469680" y="404640"/>
              <a:ext cx="1880280" cy="2332440"/>
            </a:xfrm>
            <a:custGeom>
              <a:avLst/>
              <a:gdLst>
                <a:gd name="textAreaLeft" fmla="*/ 91800 w 1880280"/>
                <a:gd name="textAreaRight" fmla="*/ 1788480 w 1880280"/>
                <a:gd name="textAreaTop" fmla="*/ 91800 h 2332440"/>
                <a:gd name="textAreaBottom" fmla="*/ 2240640 h 2332440"/>
              </a:gdLst>
              <a:ahLst/>
              <a:rect l="textAreaLeft" t="textAreaTop" r="textAreaRight" b="textAreaBottom"/>
              <a:pathLst>
                <a:path w="21600" h="26793">
                  <a:moveTo>
                    <a:pt x="3600" y="0"/>
                  </a:moveTo>
                  <a:arcTo wR="3600" hR="3600" stAng="16200000" swAng="-5400000"/>
                  <a:lnTo>
                    <a:pt x="0" y="23193"/>
                  </a:lnTo>
                  <a:arcTo wR="3600" hR="3600" stAng="10800000" swAng="-5400000"/>
                  <a:lnTo>
                    <a:pt x="18000" y="267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3300"/>
                  </a:solidFill>
                  <a:latin typeface="Arial"/>
                </a:rPr>
                <a:t>Пассивная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3300"/>
                  </a:solidFill>
                  <a:latin typeface="Arial"/>
                </a:rPr>
                <a:t>лексик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1033"/>
            <p:cNvSpPr/>
            <p:nvPr/>
          </p:nvSpPr>
          <p:spPr>
            <a:xfrm>
              <a:off x="179280" y="3903120"/>
              <a:ext cx="1880280" cy="2332440"/>
            </a:xfrm>
            <a:custGeom>
              <a:avLst/>
              <a:gdLst>
                <a:gd name="textAreaLeft" fmla="*/ 91800 w 1880280"/>
                <a:gd name="textAreaRight" fmla="*/ 1788480 w 1880280"/>
                <a:gd name="textAreaTop" fmla="*/ 91800 h 2332440"/>
                <a:gd name="textAreaBottom" fmla="*/ 2240640 h 2332440"/>
              </a:gdLst>
              <a:ahLst/>
              <a:rect l="textAreaLeft" t="textAreaTop" r="textAreaRight" b="textAreaBottom"/>
              <a:pathLst>
                <a:path w="21600" h="26793">
                  <a:moveTo>
                    <a:pt x="3600" y="0"/>
                  </a:moveTo>
                  <a:arcTo wR="3600" hR="3600" stAng="16200000" swAng="-5400000"/>
                  <a:lnTo>
                    <a:pt x="0" y="23193"/>
                  </a:lnTo>
                  <a:arcTo wR="3600" hR="3600" stAng="10800000" swAng="-5400000"/>
                  <a:lnTo>
                    <a:pt x="18000" y="267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99ff66"/>
                  </a:solidFill>
                  <a:uFillTx/>
                  <a:latin typeface="Arial"/>
                  <a:hlinkClick r:id="rId1" action="ppaction://hlinksldjump"/>
                </a:rPr>
                <a:t>ИСТОРИЗМЫ,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99ff66"/>
                  </a:solidFill>
                  <a:uFillTx/>
                  <a:latin typeface="Arial"/>
                  <a:hlinkClick r:id="rId2" action="ppaction://hlinksldjump"/>
                </a:rPr>
                <a:t>АРХАИЗМ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2372760" y="3903120"/>
              <a:ext cx="1880280" cy="2332440"/>
            </a:xfrm>
            <a:custGeom>
              <a:avLst/>
              <a:gdLst>
                <a:gd name="textAreaLeft" fmla="*/ 91800 w 1880280"/>
                <a:gd name="textAreaRight" fmla="*/ 1788480 w 1880280"/>
                <a:gd name="textAreaTop" fmla="*/ 91800 h 2332440"/>
                <a:gd name="textAreaBottom" fmla="*/ 2240640 h 2332440"/>
              </a:gdLst>
              <a:ahLst/>
              <a:rect l="textAreaLeft" t="textAreaTop" r="textAreaRight" b="textAreaBottom"/>
              <a:pathLst>
                <a:path w="21600" h="26793">
                  <a:moveTo>
                    <a:pt x="3600" y="0"/>
                  </a:moveTo>
                  <a:arcTo wR="3600" hR="3600" stAng="16200000" swAng="-5400000"/>
                  <a:lnTo>
                    <a:pt x="0" y="23193"/>
                  </a:lnTo>
                  <a:arcTo wR="3600" hR="3600" stAng="10800000" swAng="-5400000"/>
                  <a:lnTo>
                    <a:pt x="18000" y="267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99ff66"/>
                  </a:solidFill>
                  <a:uFillTx/>
                  <a:latin typeface="Arial"/>
                  <a:hlinkClick r:id="rId3" action="ppaction://hlinksldjump"/>
                </a:rPr>
                <a:t>ПРОФЕССИОНА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99ff66"/>
                  </a:solidFill>
                  <a:uFillTx/>
                  <a:latin typeface="Arial"/>
                  <a:hlinkClick r:id="rId4" action="ppaction://hlinksldjump"/>
                </a:rPr>
                <a:t>ЛИЗМ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1035"/>
            <p:cNvSpPr/>
            <p:nvPr/>
          </p:nvSpPr>
          <p:spPr>
            <a:xfrm>
              <a:off x="4566600" y="3903120"/>
              <a:ext cx="1880280" cy="2332440"/>
            </a:xfrm>
            <a:custGeom>
              <a:avLst/>
              <a:gdLst>
                <a:gd name="textAreaLeft" fmla="*/ 91800 w 1880280"/>
                <a:gd name="textAreaRight" fmla="*/ 1788480 w 1880280"/>
                <a:gd name="textAreaTop" fmla="*/ 91800 h 2332440"/>
                <a:gd name="textAreaBottom" fmla="*/ 2240640 h 2332440"/>
              </a:gdLst>
              <a:ahLst/>
              <a:rect l="textAreaLeft" t="textAreaTop" r="textAreaRight" b="textAreaBottom"/>
              <a:pathLst>
                <a:path w="21600" h="26793">
                  <a:moveTo>
                    <a:pt x="3600" y="0"/>
                  </a:moveTo>
                  <a:arcTo wR="3600" hR="3600" stAng="16200000" swAng="-5400000"/>
                  <a:lnTo>
                    <a:pt x="0" y="23193"/>
                  </a:lnTo>
                  <a:arcTo wR="3600" hR="3600" stAng="10800000" swAng="-5400000"/>
                  <a:lnTo>
                    <a:pt x="18000" y="267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99ff66"/>
                  </a:solidFill>
                  <a:uFillTx/>
                  <a:latin typeface="Arial"/>
                  <a:hlinkClick r:id="rId5" action="ppaction://hlinksldjump"/>
                </a:rPr>
                <a:t>ДИАЛЕКТИЗМ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1036"/>
            <p:cNvSpPr/>
            <p:nvPr/>
          </p:nvSpPr>
          <p:spPr>
            <a:xfrm>
              <a:off x="6760080" y="3903120"/>
              <a:ext cx="1880280" cy="2332440"/>
            </a:xfrm>
            <a:custGeom>
              <a:avLst/>
              <a:gdLst>
                <a:gd name="textAreaLeft" fmla="*/ 91800 w 1880280"/>
                <a:gd name="textAreaRight" fmla="*/ 1788480 w 1880280"/>
                <a:gd name="textAreaTop" fmla="*/ 91800 h 2332440"/>
                <a:gd name="textAreaBottom" fmla="*/ 2240640 h 2332440"/>
              </a:gdLst>
              <a:ahLst/>
              <a:rect l="textAreaLeft" t="textAreaTop" r="textAreaRight" b="textAreaBottom"/>
              <a:pathLst>
                <a:path w="21600" h="26793">
                  <a:moveTo>
                    <a:pt x="3600" y="0"/>
                  </a:moveTo>
                  <a:arcTo wR="3600" hR="3600" stAng="16200000" swAng="-5400000"/>
                  <a:lnTo>
                    <a:pt x="0" y="23193"/>
                  </a:lnTo>
                  <a:arcTo wR="3600" hR="3600" stAng="10800000" swAng="-5400000"/>
                  <a:lnTo>
                    <a:pt x="18000" y="267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99ff66"/>
                  </a:solidFill>
                  <a:uFillTx/>
                  <a:latin typeface="Arial"/>
                  <a:hlinkClick r:id="rId6" action="ppaction://hlinksldjump"/>
                </a:rPr>
                <a:t>ЖАРГОНИЗМ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Разнообразие состава лекс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11" name="Organization Chart 7"/>
          <p:cNvGrpSpPr/>
          <p:nvPr/>
        </p:nvGrpSpPr>
        <p:grpSpPr>
          <a:xfrm>
            <a:off x="539640" y="1866960"/>
            <a:ext cx="8262720" cy="4513320"/>
            <a:chOff x="539640" y="1866960"/>
            <a:chExt cx="8262720" cy="4513320"/>
          </a:xfrm>
        </p:grpSpPr>
        <p:cxnSp>
          <p:nvCxnSpPr>
            <p:cNvPr id="112" name="_s2052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5825520" y="2516040"/>
              <a:ext cx="903240" cy="3214080"/>
            </a:xfrm>
            <a:prstGeom prst="bentConnector3">
              <a:avLst>
                <a:gd name="adj1" fmla="val 1363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2053"/>
            <p:cNvCxnSpPr>
              <a:stCxn id="116" idx="0"/>
              <a:endCxn id="114" idx="2"/>
            </p:cNvCxnSpPr>
            <p:nvPr/>
          </p:nvCxnSpPr>
          <p:spPr>
            <a:xfrm flipV="1" rot="16200000">
              <a:off x="4755240" y="3586320"/>
              <a:ext cx="903240" cy="1073520"/>
            </a:xfrm>
            <a:prstGeom prst="bentConnector3">
              <a:avLst>
                <a:gd name="adj1" fmla="val 1363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2054"/>
            <p:cNvCxnSpPr>
              <a:stCxn id="118" idx="0"/>
              <a:endCxn id="114" idx="2"/>
            </p:cNvCxnSpPr>
            <p:nvPr/>
          </p:nvCxnSpPr>
          <p:spPr>
            <a:xfrm flipH="1" flipV="1" rot="5400000">
              <a:off x="3683520" y="3587760"/>
              <a:ext cx="903240" cy="1071360"/>
            </a:xfrm>
            <a:prstGeom prst="bentConnector3">
              <a:avLst>
                <a:gd name="adj1" fmla="val 1363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9" name="_s2055"/>
            <p:cNvCxnSpPr>
              <a:stCxn id="120" idx="0"/>
              <a:endCxn id="114" idx="2"/>
            </p:cNvCxnSpPr>
            <p:nvPr/>
          </p:nvCxnSpPr>
          <p:spPr>
            <a:xfrm flipH="1" flipV="1" rot="5400000">
              <a:off x="2612520" y="2516400"/>
              <a:ext cx="903240" cy="3213720"/>
            </a:xfrm>
            <a:prstGeom prst="bentConnector3">
              <a:avLst>
                <a:gd name="adj1" fmla="val 1363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4" name="_s2056"/>
            <p:cNvSpPr/>
            <p:nvPr/>
          </p:nvSpPr>
          <p:spPr>
            <a:xfrm>
              <a:off x="3752640" y="1866960"/>
              <a:ext cx="1836000" cy="18054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3300"/>
                  </a:solidFill>
                  <a:latin typeface="Arial"/>
                </a:rPr>
                <a:t>Состав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3300"/>
                  </a:solidFill>
                  <a:latin typeface="Arial"/>
                </a:rPr>
                <a:t>лексики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2057"/>
            <p:cNvSpPr/>
            <p:nvPr/>
          </p:nvSpPr>
          <p:spPr>
            <a:xfrm>
              <a:off x="539640" y="4574880"/>
              <a:ext cx="1836000" cy="18054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99ff66"/>
                  </a:solidFill>
                  <a:uFillTx/>
                  <a:latin typeface="Arial"/>
                  <a:hlinkClick r:id="rId1" action="ppaction://hlinksldjump"/>
                </a:rPr>
                <a:t>Омоним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2058"/>
            <p:cNvSpPr/>
            <p:nvPr/>
          </p:nvSpPr>
          <p:spPr>
            <a:xfrm>
              <a:off x="2681640" y="4574880"/>
              <a:ext cx="1836000" cy="18054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99ff66"/>
                  </a:solidFill>
                  <a:uFillTx/>
                  <a:latin typeface="Arial"/>
                  <a:hlinkClick r:id="rId2" action="ppaction://hlinksldjump"/>
                </a:rPr>
                <a:t>Синоним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2059"/>
            <p:cNvSpPr/>
            <p:nvPr/>
          </p:nvSpPr>
          <p:spPr>
            <a:xfrm>
              <a:off x="4824000" y="4574880"/>
              <a:ext cx="1836000" cy="18054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99ff66"/>
                  </a:solidFill>
                  <a:uFillTx/>
                  <a:latin typeface="Arial"/>
                  <a:hlinkClick r:id="rId3" action="ppaction://hlinksldjump"/>
                </a:rPr>
                <a:t>Антоним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2060"/>
            <p:cNvSpPr/>
            <p:nvPr/>
          </p:nvSpPr>
          <p:spPr>
            <a:xfrm>
              <a:off x="6966360" y="4574880"/>
              <a:ext cx="1836000" cy="18054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99ff66"/>
                  </a:solidFill>
                  <a:uFillTx/>
                  <a:latin typeface="Arial"/>
                  <a:hlinkClick r:id="rId4" action="ppaction://hlinksldjump"/>
                </a:rPr>
                <a:t>Фразеоло-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99ff66"/>
                  </a:solidFill>
                  <a:uFillTx/>
                  <a:latin typeface="Arial"/>
                  <a:hlinkClick r:id="rId5" action="ppaction://hlinksldjump"/>
                </a:rPr>
                <a:t>гизм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ексическое значение сло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ой значимой единицей языка является слово. Совокупность всех слов языка составляет его лекс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а в языке служат для обозначения конкретных предметов, признаков предметов, действий, признаков действий, колич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.З.Слова – это его содержание, его соотнесенность с предметом или явлением действи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оме лексического значения, слово имеет грамматическое знач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4">
            <a:hlinkClick r:id="" action="ppaction://hlinkshowjump?jump=endshow"/>
          </p:cNvPr>
          <p:cNvSpPr/>
          <p:nvPr/>
        </p:nvSpPr>
        <p:spPr>
          <a:xfrm>
            <a:off x="7667640" y="6381720"/>
            <a:ext cx="1081080" cy="476280"/>
          </a:xfrm>
          <a:custGeom>
            <a:avLst/>
            <a:gdLst>
              <a:gd name="textAreaLeft" fmla="*/ 30600 w 1081080"/>
              <a:gd name="textAreaRight" fmla="*/ 1050480 w 1081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9008" h="21600">
                <a:moveTo>
                  <a:pt x="0" y="0"/>
                </a:moveTo>
                <a:lnTo>
                  <a:pt x="49008" y="0"/>
                </a:lnTo>
                <a:lnTo>
                  <a:pt x="49008" y="21600"/>
                </a:lnTo>
                <a:lnTo>
                  <a:pt x="0" y="21600"/>
                </a:lnTo>
                <a:close/>
              </a:path>
              <a:path fill="lightenLess" w="49008" h="21600">
                <a:moveTo>
                  <a:pt x="0" y="0"/>
                </a:moveTo>
                <a:lnTo>
                  <a:pt x="49008" y="0"/>
                </a:lnTo>
                <a:lnTo>
                  <a:pt x="47608" y="1400"/>
                </a:lnTo>
                <a:lnTo>
                  <a:pt x="1400" y="1400"/>
                </a:lnTo>
                <a:close/>
              </a:path>
              <a:path fill="darken" w="49008" h="21600">
                <a:moveTo>
                  <a:pt x="49008" y="0"/>
                </a:moveTo>
                <a:lnTo>
                  <a:pt x="49008" y="21600"/>
                </a:lnTo>
                <a:lnTo>
                  <a:pt x="47608" y="20200"/>
                </a:lnTo>
                <a:lnTo>
                  <a:pt x="47608" y="1400"/>
                </a:lnTo>
                <a:close/>
              </a:path>
              <a:path fill="darkenLess" w="49008" h="21600">
                <a:moveTo>
                  <a:pt x="49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08" y="20200"/>
                </a:lnTo>
                <a:close/>
              </a:path>
              <a:path fill="lighten" w="49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008" h="21600">
                <a:moveTo>
                  <a:pt x="24504" y="3837"/>
                </a:moveTo>
                <a:lnTo>
                  <a:pt x="27080" y="6448"/>
                </a:lnTo>
                <a:lnTo>
                  <a:pt x="27080" y="4707"/>
                </a:lnTo>
                <a:lnTo>
                  <a:pt x="28856" y="4707"/>
                </a:lnTo>
                <a:lnTo>
                  <a:pt x="28856" y="8224"/>
                </a:lnTo>
                <a:lnTo>
                  <a:pt x="31467" y="10800"/>
                </a:lnTo>
                <a:lnTo>
                  <a:pt x="29813" y="10800"/>
                </a:lnTo>
                <a:lnTo>
                  <a:pt x="29813" y="17989"/>
                </a:lnTo>
                <a:lnTo>
                  <a:pt x="19195" y="17989"/>
                </a:lnTo>
                <a:lnTo>
                  <a:pt x="19195" y="10800"/>
                </a:lnTo>
                <a:lnTo>
                  <a:pt x="17541" y="10800"/>
                </a:lnTo>
                <a:close/>
              </a:path>
              <a:path fill="darkenLess" w="49008" h="21600">
                <a:moveTo>
                  <a:pt x="27080" y="6448"/>
                </a:moveTo>
                <a:lnTo>
                  <a:pt x="27080" y="4707"/>
                </a:lnTo>
                <a:lnTo>
                  <a:pt x="28856" y="4707"/>
                </a:lnTo>
                <a:lnTo>
                  <a:pt x="28856" y="8224"/>
                </a:lnTo>
                <a:close/>
              </a:path>
              <a:path fill="darkenLess" w="49008" h="21600">
                <a:moveTo>
                  <a:pt x="23581" y="14299"/>
                </a:moveTo>
                <a:lnTo>
                  <a:pt x="25427" y="14299"/>
                </a:lnTo>
                <a:lnTo>
                  <a:pt x="25427" y="17989"/>
                </a:lnTo>
                <a:lnTo>
                  <a:pt x="29813" y="17989"/>
                </a:lnTo>
                <a:lnTo>
                  <a:pt x="29813" y="10800"/>
                </a:lnTo>
                <a:lnTo>
                  <a:pt x="19195" y="10800"/>
                </a:lnTo>
                <a:lnTo>
                  <a:pt x="19195" y="17989"/>
                </a:lnTo>
                <a:lnTo>
                  <a:pt x="23581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ло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3772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знач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ть слова, которые обозначают только один предмет, признак, действие. Слово, имеющее одно лексическое значение, называется однознач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пример, словом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фиолетовый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значается только один из цветов спек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09800" y="1196640"/>
            <a:ext cx="3771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ногознач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им и тем же словом могут наз-ся  разные предметы, признаки, действия. Н-р: словом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ребень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значается и предмет для расчесывания волос, и вершина горы, и верх волны, и верх только что вспаханного пласта земли, и мясистый нарост на голове у петуха. При этом между данными предметами имеется сходство по фор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7">
            <a:hlinkClick r:id="" action="ppaction://hlinkshowjump?jump=endshow"/>
          </p:cNvPr>
          <p:cNvSpPr/>
          <p:nvPr/>
        </p:nvSpPr>
        <p:spPr>
          <a:xfrm>
            <a:off x="7667640" y="6381720"/>
            <a:ext cx="1081080" cy="476280"/>
          </a:xfrm>
          <a:custGeom>
            <a:avLst/>
            <a:gdLst>
              <a:gd name="textAreaLeft" fmla="*/ 30600 w 1081080"/>
              <a:gd name="textAreaRight" fmla="*/ 1050480 w 1081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9008" h="21600">
                <a:moveTo>
                  <a:pt x="0" y="0"/>
                </a:moveTo>
                <a:lnTo>
                  <a:pt x="49008" y="0"/>
                </a:lnTo>
                <a:lnTo>
                  <a:pt x="49008" y="21600"/>
                </a:lnTo>
                <a:lnTo>
                  <a:pt x="0" y="21600"/>
                </a:lnTo>
                <a:close/>
              </a:path>
              <a:path fill="lightenLess" w="49008" h="21600">
                <a:moveTo>
                  <a:pt x="0" y="0"/>
                </a:moveTo>
                <a:lnTo>
                  <a:pt x="49008" y="0"/>
                </a:lnTo>
                <a:lnTo>
                  <a:pt x="47608" y="1400"/>
                </a:lnTo>
                <a:lnTo>
                  <a:pt x="1400" y="1400"/>
                </a:lnTo>
                <a:close/>
              </a:path>
              <a:path fill="darken" w="49008" h="21600">
                <a:moveTo>
                  <a:pt x="49008" y="0"/>
                </a:moveTo>
                <a:lnTo>
                  <a:pt x="49008" y="21600"/>
                </a:lnTo>
                <a:lnTo>
                  <a:pt x="47608" y="20200"/>
                </a:lnTo>
                <a:lnTo>
                  <a:pt x="47608" y="1400"/>
                </a:lnTo>
                <a:close/>
              </a:path>
              <a:path fill="darkenLess" w="49008" h="21600">
                <a:moveTo>
                  <a:pt x="49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08" y="20200"/>
                </a:lnTo>
                <a:close/>
              </a:path>
              <a:path fill="lighten" w="49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008" h="21600">
                <a:moveTo>
                  <a:pt x="24504" y="3837"/>
                </a:moveTo>
                <a:lnTo>
                  <a:pt x="27080" y="6448"/>
                </a:lnTo>
                <a:lnTo>
                  <a:pt x="27080" y="4707"/>
                </a:lnTo>
                <a:lnTo>
                  <a:pt x="28856" y="4707"/>
                </a:lnTo>
                <a:lnTo>
                  <a:pt x="28856" y="8224"/>
                </a:lnTo>
                <a:lnTo>
                  <a:pt x="31467" y="10800"/>
                </a:lnTo>
                <a:lnTo>
                  <a:pt x="29813" y="10800"/>
                </a:lnTo>
                <a:lnTo>
                  <a:pt x="29813" y="17989"/>
                </a:lnTo>
                <a:lnTo>
                  <a:pt x="19195" y="17989"/>
                </a:lnTo>
                <a:lnTo>
                  <a:pt x="19195" y="10800"/>
                </a:lnTo>
                <a:lnTo>
                  <a:pt x="17541" y="10800"/>
                </a:lnTo>
                <a:close/>
              </a:path>
              <a:path fill="darkenLess" w="49008" h="21600">
                <a:moveTo>
                  <a:pt x="27080" y="6448"/>
                </a:moveTo>
                <a:lnTo>
                  <a:pt x="27080" y="4707"/>
                </a:lnTo>
                <a:lnTo>
                  <a:pt x="28856" y="4707"/>
                </a:lnTo>
                <a:lnTo>
                  <a:pt x="28856" y="8224"/>
                </a:lnTo>
                <a:close/>
              </a:path>
              <a:path fill="darkenLess" w="49008" h="21600">
                <a:moveTo>
                  <a:pt x="23581" y="14299"/>
                </a:moveTo>
                <a:lnTo>
                  <a:pt x="25427" y="14299"/>
                </a:lnTo>
                <a:lnTo>
                  <a:pt x="25427" y="17989"/>
                </a:lnTo>
                <a:lnTo>
                  <a:pt x="29813" y="17989"/>
                </a:lnTo>
                <a:lnTo>
                  <a:pt x="29813" y="10800"/>
                </a:lnTo>
                <a:lnTo>
                  <a:pt x="19195" y="10800"/>
                </a:lnTo>
                <a:lnTo>
                  <a:pt x="19195" y="17989"/>
                </a:lnTo>
                <a:lnTo>
                  <a:pt x="23581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Историзмы, архаиз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6960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змы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это слова, обозначающие понятия той или иной эпохи: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эпман, продразверстка, социалистический лагер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рхаизмы –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таревшие слова, имеющие современные синонимы. Например: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чело, трапеза, дворец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5">
            <a:hlinkClick r:id="rId1" action="ppaction://hlinksldjump"/>
          </p:cNvPr>
          <p:cNvSpPr/>
          <p:nvPr/>
        </p:nvSpPr>
        <p:spPr>
          <a:xfrm>
            <a:off x="7956720" y="6453360"/>
            <a:ext cx="936360" cy="404640"/>
          </a:xfrm>
          <a:custGeom>
            <a:avLst/>
            <a:gdLst>
              <a:gd name="textAreaLeft" fmla="*/ 25920 w 936360"/>
              <a:gd name="textAreaRight" fmla="*/ 910440 w 93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9958" h="21600">
                <a:moveTo>
                  <a:pt x="0" y="0"/>
                </a:moveTo>
                <a:lnTo>
                  <a:pt x="49958" y="0"/>
                </a:lnTo>
                <a:lnTo>
                  <a:pt x="49958" y="21600"/>
                </a:lnTo>
                <a:lnTo>
                  <a:pt x="0" y="21600"/>
                </a:lnTo>
                <a:close/>
              </a:path>
              <a:path fill="lightenLess" w="49958" h="21600">
                <a:moveTo>
                  <a:pt x="0" y="0"/>
                </a:moveTo>
                <a:lnTo>
                  <a:pt x="49958" y="0"/>
                </a:lnTo>
                <a:lnTo>
                  <a:pt x="48558" y="1400"/>
                </a:lnTo>
                <a:lnTo>
                  <a:pt x="1400" y="1400"/>
                </a:lnTo>
                <a:close/>
              </a:path>
              <a:path fill="darken" w="49958" h="21600">
                <a:moveTo>
                  <a:pt x="49958" y="0"/>
                </a:moveTo>
                <a:lnTo>
                  <a:pt x="49958" y="21600"/>
                </a:lnTo>
                <a:lnTo>
                  <a:pt x="48558" y="20200"/>
                </a:lnTo>
                <a:lnTo>
                  <a:pt x="48558" y="1400"/>
                </a:lnTo>
                <a:close/>
              </a:path>
              <a:path fill="darkenLess" w="49958" h="21600">
                <a:moveTo>
                  <a:pt x="49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58" y="20200"/>
                </a:lnTo>
                <a:close/>
              </a:path>
              <a:path fill="lighten" w="49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6">
            <a:hlinkClick r:id="" action="ppaction://hlinkshowjump?jump=endshow"/>
          </p:cNvPr>
          <p:cNvSpPr/>
          <p:nvPr/>
        </p:nvSpPr>
        <p:spPr>
          <a:xfrm>
            <a:off x="6877080" y="6453360"/>
            <a:ext cx="1081080" cy="404640"/>
          </a:xfrm>
          <a:custGeom>
            <a:avLst/>
            <a:gdLst>
              <a:gd name="textAreaLeft" fmla="*/ 25920 w 1081080"/>
              <a:gd name="textAreaRight" fmla="*/ 1055160 w 1081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7677" h="21600">
                <a:moveTo>
                  <a:pt x="0" y="0"/>
                </a:moveTo>
                <a:lnTo>
                  <a:pt x="57677" y="0"/>
                </a:lnTo>
                <a:lnTo>
                  <a:pt x="57677" y="21600"/>
                </a:lnTo>
                <a:lnTo>
                  <a:pt x="0" y="21600"/>
                </a:lnTo>
                <a:close/>
              </a:path>
              <a:path fill="lightenLess" w="57677" h="21600">
                <a:moveTo>
                  <a:pt x="0" y="0"/>
                </a:moveTo>
                <a:lnTo>
                  <a:pt x="57677" y="0"/>
                </a:lnTo>
                <a:lnTo>
                  <a:pt x="56277" y="1400"/>
                </a:lnTo>
                <a:lnTo>
                  <a:pt x="1400" y="1400"/>
                </a:lnTo>
                <a:close/>
              </a:path>
              <a:path fill="darken" w="57677" h="21600">
                <a:moveTo>
                  <a:pt x="57677" y="0"/>
                </a:moveTo>
                <a:lnTo>
                  <a:pt x="57677" y="21600"/>
                </a:lnTo>
                <a:lnTo>
                  <a:pt x="56277" y="20200"/>
                </a:lnTo>
                <a:lnTo>
                  <a:pt x="56277" y="1400"/>
                </a:lnTo>
                <a:close/>
              </a:path>
              <a:path fill="darkenLess" w="57677" h="21600">
                <a:moveTo>
                  <a:pt x="57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77" y="20200"/>
                </a:lnTo>
                <a:close/>
              </a:path>
              <a:path fill="lighten" w="57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77" h="21600">
                <a:moveTo>
                  <a:pt x="28838" y="3837"/>
                </a:moveTo>
                <a:lnTo>
                  <a:pt x="31415" y="6448"/>
                </a:lnTo>
                <a:lnTo>
                  <a:pt x="31415" y="4707"/>
                </a:lnTo>
                <a:lnTo>
                  <a:pt x="33190" y="4707"/>
                </a:lnTo>
                <a:lnTo>
                  <a:pt x="33190" y="8224"/>
                </a:lnTo>
                <a:lnTo>
                  <a:pt x="35801" y="10800"/>
                </a:lnTo>
                <a:lnTo>
                  <a:pt x="34148" y="10800"/>
                </a:lnTo>
                <a:lnTo>
                  <a:pt x="34148" y="17989"/>
                </a:lnTo>
                <a:lnTo>
                  <a:pt x="23529" y="17989"/>
                </a:lnTo>
                <a:lnTo>
                  <a:pt x="23529" y="10800"/>
                </a:lnTo>
                <a:lnTo>
                  <a:pt x="21875" y="10800"/>
                </a:lnTo>
                <a:close/>
              </a:path>
              <a:path fill="darkenLess" w="57677" h="21600">
                <a:moveTo>
                  <a:pt x="31415" y="6448"/>
                </a:moveTo>
                <a:lnTo>
                  <a:pt x="31415" y="4707"/>
                </a:lnTo>
                <a:lnTo>
                  <a:pt x="33190" y="4707"/>
                </a:lnTo>
                <a:lnTo>
                  <a:pt x="33190" y="8224"/>
                </a:lnTo>
                <a:close/>
              </a:path>
              <a:path fill="darkenLess" w="57677" h="21600">
                <a:moveTo>
                  <a:pt x="27916" y="14299"/>
                </a:moveTo>
                <a:lnTo>
                  <a:pt x="29761" y="14299"/>
                </a:lnTo>
                <a:lnTo>
                  <a:pt x="29761" y="17989"/>
                </a:lnTo>
                <a:lnTo>
                  <a:pt x="34148" y="17989"/>
                </a:lnTo>
                <a:lnTo>
                  <a:pt x="34148" y="10800"/>
                </a:lnTo>
                <a:lnTo>
                  <a:pt x="23529" y="10800"/>
                </a:lnTo>
                <a:lnTo>
                  <a:pt x="23529" y="17989"/>
                </a:lnTo>
                <a:lnTo>
                  <a:pt x="27916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Профессионализ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а и выражения, свойственные речи представителей той или ин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ие профессионализмы вошли в разговорную речь как синонимы общеупотребительных слов. Н-р: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ырубить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ключить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драить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отно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ыть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, баранка-руль, блеф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 речи картеж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. употребляют писатели в определенных ситуациях, при характеристике героев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">
            <a:hlinkClick r:id="rId1" action="ppaction://hlinksldjump"/>
          </p:cNvPr>
          <p:cNvSpPr/>
          <p:nvPr/>
        </p:nvSpPr>
        <p:spPr>
          <a:xfrm>
            <a:off x="7956720" y="6453360"/>
            <a:ext cx="936360" cy="404640"/>
          </a:xfrm>
          <a:custGeom>
            <a:avLst/>
            <a:gdLst>
              <a:gd name="textAreaLeft" fmla="*/ 25920 w 936360"/>
              <a:gd name="textAreaRight" fmla="*/ 910440 w 93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9958" h="21600">
                <a:moveTo>
                  <a:pt x="0" y="0"/>
                </a:moveTo>
                <a:lnTo>
                  <a:pt x="49958" y="0"/>
                </a:lnTo>
                <a:lnTo>
                  <a:pt x="49958" y="21600"/>
                </a:lnTo>
                <a:lnTo>
                  <a:pt x="0" y="21600"/>
                </a:lnTo>
                <a:close/>
              </a:path>
              <a:path fill="lightenLess" w="49958" h="21600">
                <a:moveTo>
                  <a:pt x="0" y="0"/>
                </a:moveTo>
                <a:lnTo>
                  <a:pt x="49958" y="0"/>
                </a:lnTo>
                <a:lnTo>
                  <a:pt x="48558" y="1400"/>
                </a:lnTo>
                <a:lnTo>
                  <a:pt x="1400" y="1400"/>
                </a:lnTo>
                <a:close/>
              </a:path>
              <a:path fill="darken" w="49958" h="21600">
                <a:moveTo>
                  <a:pt x="49958" y="0"/>
                </a:moveTo>
                <a:lnTo>
                  <a:pt x="49958" y="21600"/>
                </a:lnTo>
                <a:lnTo>
                  <a:pt x="48558" y="20200"/>
                </a:lnTo>
                <a:lnTo>
                  <a:pt x="48558" y="1400"/>
                </a:lnTo>
                <a:close/>
              </a:path>
              <a:path fill="darkenLess" w="49958" h="21600">
                <a:moveTo>
                  <a:pt x="49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58" y="20200"/>
                </a:lnTo>
                <a:close/>
              </a:path>
              <a:path fill="lighten" w="49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5">
            <a:hlinkClick r:id="" action="ppaction://hlinkshowjump?jump=endshow"/>
          </p:cNvPr>
          <p:cNvSpPr/>
          <p:nvPr/>
        </p:nvSpPr>
        <p:spPr>
          <a:xfrm>
            <a:off x="6948360" y="6453360"/>
            <a:ext cx="1081080" cy="404640"/>
          </a:xfrm>
          <a:custGeom>
            <a:avLst/>
            <a:gdLst>
              <a:gd name="textAreaLeft" fmla="*/ 25920 w 1081080"/>
              <a:gd name="textAreaRight" fmla="*/ 1055160 w 1081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7677" h="21600">
                <a:moveTo>
                  <a:pt x="0" y="0"/>
                </a:moveTo>
                <a:lnTo>
                  <a:pt x="57677" y="0"/>
                </a:lnTo>
                <a:lnTo>
                  <a:pt x="57677" y="21600"/>
                </a:lnTo>
                <a:lnTo>
                  <a:pt x="0" y="21600"/>
                </a:lnTo>
                <a:close/>
              </a:path>
              <a:path fill="lightenLess" w="57677" h="21600">
                <a:moveTo>
                  <a:pt x="0" y="0"/>
                </a:moveTo>
                <a:lnTo>
                  <a:pt x="57677" y="0"/>
                </a:lnTo>
                <a:lnTo>
                  <a:pt x="56277" y="1400"/>
                </a:lnTo>
                <a:lnTo>
                  <a:pt x="1400" y="1400"/>
                </a:lnTo>
                <a:close/>
              </a:path>
              <a:path fill="darken" w="57677" h="21600">
                <a:moveTo>
                  <a:pt x="57677" y="0"/>
                </a:moveTo>
                <a:lnTo>
                  <a:pt x="57677" y="21600"/>
                </a:lnTo>
                <a:lnTo>
                  <a:pt x="56277" y="20200"/>
                </a:lnTo>
                <a:lnTo>
                  <a:pt x="56277" y="1400"/>
                </a:lnTo>
                <a:close/>
              </a:path>
              <a:path fill="darkenLess" w="57677" h="21600">
                <a:moveTo>
                  <a:pt x="57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77" y="20200"/>
                </a:lnTo>
                <a:close/>
              </a:path>
              <a:path fill="lighten" w="57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77" h="21600">
                <a:moveTo>
                  <a:pt x="28838" y="3837"/>
                </a:moveTo>
                <a:lnTo>
                  <a:pt x="31415" y="6448"/>
                </a:lnTo>
                <a:lnTo>
                  <a:pt x="31415" y="4707"/>
                </a:lnTo>
                <a:lnTo>
                  <a:pt x="33190" y="4707"/>
                </a:lnTo>
                <a:lnTo>
                  <a:pt x="33190" y="8224"/>
                </a:lnTo>
                <a:lnTo>
                  <a:pt x="35801" y="10800"/>
                </a:lnTo>
                <a:lnTo>
                  <a:pt x="34148" y="10800"/>
                </a:lnTo>
                <a:lnTo>
                  <a:pt x="34148" y="17989"/>
                </a:lnTo>
                <a:lnTo>
                  <a:pt x="23529" y="17989"/>
                </a:lnTo>
                <a:lnTo>
                  <a:pt x="23529" y="10800"/>
                </a:lnTo>
                <a:lnTo>
                  <a:pt x="21875" y="10800"/>
                </a:lnTo>
                <a:close/>
              </a:path>
              <a:path fill="darkenLess" w="57677" h="21600">
                <a:moveTo>
                  <a:pt x="31415" y="6448"/>
                </a:moveTo>
                <a:lnTo>
                  <a:pt x="31415" y="4707"/>
                </a:lnTo>
                <a:lnTo>
                  <a:pt x="33190" y="4707"/>
                </a:lnTo>
                <a:lnTo>
                  <a:pt x="33190" y="8224"/>
                </a:lnTo>
                <a:close/>
              </a:path>
              <a:path fill="darkenLess" w="57677" h="21600">
                <a:moveTo>
                  <a:pt x="27916" y="14299"/>
                </a:moveTo>
                <a:lnTo>
                  <a:pt x="29761" y="14299"/>
                </a:lnTo>
                <a:lnTo>
                  <a:pt x="29761" y="17989"/>
                </a:lnTo>
                <a:lnTo>
                  <a:pt x="34148" y="17989"/>
                </a:lnTo>
                <a:lnTo>
                  <a:pt x="34148" y="10800"/>
                </a:lnTo>
                <a:lnTo>
                  <a:pt x="23529" y="10800"/>
                </a:lnTo>
                <a:lnTo>
                  <a:pt x="23529" y="17989"/>
                </a:lnTo>
                <a:lnTo>
                  <a:pt x="27916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Диалектиз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лова, употребляемые только жителями той или иной мест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ь жителей наз-с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и и те же предметы в диалектах и в литературном языке наз-ся по –разному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урак -свекла, гуторить – говорить, баской – красивый, голицы – рукавиц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лектные слова используются в художественных произведениях для передачи особенностей речи жителей определенной мест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">
            <a:hlinkClick r:id="rId1" action="ppaction://hlinksldjump"/>
          </p:cNvPr>
          <p:cNvSpPr/>
          <p:nvPr/>
        </p:nvSpPr>
        <p:spPr>
          <a:xfrm>
            <a:off x="7956720" y="6453360"/>
            <a:ext cx="936360" cy="404640"/>
          </a:xfrm>
          <a:custGeom>
            <a:avLst/>
            <a:gdLst>
              <a:gd name="textAreaLeft" fmla="*/ 25920 w 936360"/>
              <a:gd name="textAreaRight" fmla="*/ 910440 w 93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9958" h="21600">
                <a:moveTo>
                  <a:pt x="0" y="0"/>
                </a:moveTo>
                <a:lnTo>
                  <a:pt x="49958" y="0"/>
                </a:lnTo>
                <a:lnTo>
                  <a:pt x="49958" y="21600"/>
                </a:lnTo>
                <a:lnTo>
                  <a:pt x="0" y="21600"/>
                </a:lnTo>
                <a:close/>
              </a:path>
              <a:path fill="lightenLess" w="49958" h="21600">
                <a:moveTo>
                  <a:pt x="0" y="0"/>
                </a:moveTo>
                <a:lnTo>
                  <a:pt x="49958" y="0"/>
                </a:lnTo>
                <a:lnTo>
                  <a:pt x="48558" y="1400"/>
                </a:lnTo>
                <a:lnTo>
                  <a:pt x="1400" y="1400"/>
                </a:lnTo>
                <a:close/>
              </a:path>
              <a:path fill="darken" w="49958" h="21600">
                <a:moveTo>
                  <a:pt x="49958" y="0"/>
                </a:moveTo>
                <a:lnTo>
                  <a:pt x="49958" y="21600"/>
                </a:lnTo>
                <a:lnTo>
                  <a:pt x="48558" y="20200"/>
                </a:lnTo>
                <a:lnTo>
                  <a:pt x="48558" y="1400"/>
                </a:lnTo>
                <a:close/>
              </a:path>
              <a:path fill="darkenLess" w="49958" h="21600">
                <a:moveTo>
                  <a:pt x="49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58" y="20200"/>
                </a:lnTo>
                <a:close/>
              </a:path>
              <a:path fill="lighten" w="49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5">
            <a:hlinkClick r:id="" action="ppaction://hlinkshowjump?jump=endshow"/>
          </p:cNvPr>
          <p:cNvSpPr/>
          <p:nvPr/>
        </p:nvSpPr>
        <p:spPr>
          <a:xfrm>
            <a:off x="6877080" y="6453360"/>
            <a:ext cx="1081080" cy="404640"/>
          </a:xfrm>
          <a:custGeom>
            <a:avLst/>
            <a:gdLst>
              <a:gd name="textAreaLeft" fmla="*/ 25920 w 1081080"/>
              <a:gd name="textAreaRight" fmla="*/ 1055160 w 1081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7677" h="21600">
                <a:moveTo>
                  <a:pt x="0" y="0"/>
                </a:moveTo>
                <a:lnTo>
                  <a:pt x="57677" y="0"/>
                </a:lnTo>
                <a:lnTo>
                  <a:pt x="57677" y="21600"/>
                </a:lnTo>
                <a:lnTo>
                  <a:pt x="0" y="21600"/>
                </a:lnTo>
                <a:close/>
              </a:path>
              <a:path fill="lightenLess" w="57677" h="21600">
                <a:moveTo>
                  <a:pt x="0" y="0"/>
                </a:moveTo>
                <a:lnTo>
                  <a:pt x="57677" y="0"/>
                </a:lnTo>
                <a:lnTo>
                  <a:pt x="56277" y="1400"/>
                </a:lnTo>
                <a:lnTo>
                  <a:pt x="1400" y="1400"/>
                </a:lnTo>
                <a:close/>
              </a:path>
              <a:path fill="darken" w="57677" h="21600">
                <a:moveTo>
                  <a:pt x="57677" y="0"/>
                </a:moveTo>
                <a:lnTo>
                  <a:pt x="57677" y="21600"/>
                </a:lnTo>
                <a:lnTo>
                  <a:pt x="56277" y="20200"/>
                </a:lnTo>
                <a:lnTo>
                  <a:pt x="56277" y="1400"/>
                </a:lnTo>
                <a:close/>
              </a:path>
              <a:path fill="darkenLess" w="57677" h="21600">
                <a:moveTo>
                  <a:pt x="57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77" y="20200"/>
                </a:lnTo>
                <a:close/>
              </a:path>
              <a:path fill="lighten" w="57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77" h="21600">
                <a:moveTo>
                  <a:pt x="28838" y="3837"/>
                </a:moveTo>
                <a:lnTo>
                  <a:pt x="31415" y="6448"/>
                </a:lnTo>
                <a:lnTo>
                  <a:pt x="31415" y="4707"/>
                </a:lnTo>
                <a:lnTo>
                  <a:pt x="33190" y="4707"/>
                </a:lnTo>
                <a:lnTo>
                  <a:pt x="33190" y="8224"/>
                </a:lnTo>
                <a:lnTo>
                  <a:pt x="35801" y="10800"/>
                </a:lnTo>
                <a:lnTo>
                  <a:pt x="34148" y="10800"/>
                </a:lnTo>
                <a:lnTo>
                  <a:pt x="34148" y="17989"/>
                </a:lnTo>
                <a:lnTo>
                  <a:pt x="23529" y="17989"/>
                </a:lnTo>
                <a:lnTo>
                  <a:pt x="23529" y="10800"/>
                </a:lnTo>
                <a:lnTo>
                  <a:pt x="21875" y="10800"/>
                </a:lnTo>
                <a:close/>
              </a:path>
              <a:path fill="darkenLess" w="57677" h="21600">
                <a:moveTo>
                  <a:pt x="31415" y="6448"/>
                </a:moveTo>
                <a:lnTo>
                  <a:pt x="31415" y="4707"/>
                </a:lnTo>
                <a:lnTo>
                  <a:pt x="33190" y="4707"/>
                </a:lnTo>
                <a:lnTo>
                  <a:pt x="33190" y="8224"/>
                </a:lnTo>
                <a:close/>
              </a:path>
              <a:path fill="darkenLess" w="57677" h="21600">
                <a:moveTo>
                  <a:pt x="27916" y="14299"/>
                </a:moveTo>
                <a:lnTo>
                  <a:pt x="29761" y="14299"/>
                </a:lnTo>
                <a:lnTo>
                  <a:pt x="29761" y="17989"/>
                </a:lnTo>
                <a:lnTo>
                  <a:pt x="34148" y="17989"/>
                </a:lnTo>
                <a:lnTo>
                  <a:pt x="34148" y="10800"/>
                </a:lnTo>
                <a:lnTo>
                  <a:pt x="23529" y="10800"/>
                </a:lnTo>
                <a:lnTo>
                  <a:pt x="23529" y="17989"/>
                </a:lnTo>
                <a:lnTo>
                  <a:pt x="27916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 Black"/>
              </a:rPr>
              <a:t>Жаргонизм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69608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обенностью развития русского языка в последние десятилетия является широкое распространение жаргонной лексики, молодежного арго (сленга) и уголовной лексики в литературно – разговорной и фамильярно – разговорной речи (просторечии). Эта лексика становится достоянием публицистики, употребляется в худ. литературе. Н-р: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ольно, оттянуться, базарить, стрелка, разборка, общак, авторитет, крутой, лох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дио и телевидение быстро внедрили эти слова в литературно – разговорную речь, в публицистику и в детективную литературу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4">
            <a:hlinkClick r:id="rId1" action="ppaction://hlinksldjump"/>
          </p:cNvPr>
          <p:cNvSpPr/>
          <p:nvPr/>
        </p:nvSpPr>
        <p:spPr>
          <a:xfrm>
            <a:off x="7956720" y="6453360"/>
            <a:ext cx="936360" cy="404640"/>
          </a:xfrm>
          <a:custGeom>
            <a:avLst/>
            <a:gdLst>
              <a:gd name="textAreaLeft" fmla="*/ 25920 w 936360"/>
              <a:gd name="textAreaRight" fmla="*/ 910440 w 93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9958" h="21600">
                <a:moveTo>
                  <a:pt x="0" y="0"/>
                </a:moveTo>
                <a:lnTo>
                  <a:pt x="49958" y="0"/>
                </a:lnTo>
                <a:lnTo>
                  <a:pt x="49958" y="21600"/>
                </a:lnTo>
                <a:lnTo>
                  <a:pt x="0" y="21600"/>
                </a:lnTo>
                <a:close/>
              </a:path>
              <a:path fill="lightenLess" w="49958" h="21600">
                <a:moveTo>
                  <a:pt x="0" y="0"/>
                </a:moveTo>
                <a:lnTo>
                  <a:pt x="49958" y="0"/>
                </a:lnTo>
                <a:lnTo>
                  <a:pt x="48558" y="1400"/>
                </a:lnTo>
                <a:lnTo>
                  <a:pt x="1400" y="1400"/>
                </a:lnTo>
                <a:close/>
              </a:path>
              <a:path fill="darken" w="49958" h="21600">
                <a:moveTo>
                  <a:pt x="49958" y="0"/>
                </a:moveTo>
                <a:lnTo>
                  <a:pt x="49958" y="21600"/>
                </a:lnTo>
                <a:lnTo>
                  <a:pt x="48558" y="20200"/>
                </a:lnTo>
                <a:lnTo>
                  <a:pt x="48558" y="1400"/>
                </a:lnTo>
                <a:close/>
              </a:path>
              <a:path fill="darkenLess" w="49958" h="21600">
                <a:moveTo>
                  <a:pt x="49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58" y="20200"/>
                </a:lnTo>
                <a:close/>
              </a:path>
              <a:path fill="lighten" w="49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5">
            <a:hlinkClick r:id="" action="ppaction://hlinkshowjump?jump=endshow"/>
          </p:cNvPr>
          <p:cNvSpPr/>
          <p:nvPr/>
        </p:nvSpPr>
        <p:spPr>
          <a:xfrm>
            <a:off x="6877080" y="6453360"/>
            <a:ext cx="1081080" cy="404640"/>
          </a:xfrm>
          <a:custGeom>
            <a:avLst/>
            <a:gdLst>
              <a:gd name="textAreaLeft" fmla="*/ 25920 w 1081080"/>
              <a:gd name="textAreaRight" fmla="*/ 1055160 w 1081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7677" h="21600">
                <a:moveTo>
                  <a:pt x="0" y="0"/>
                </a:moveTo>
                <a:lnTo>
                  <a:pt x="57677" y="0"/>
                </a:lnTo>
                <a:lnTo>
                  <a:pt x="57677" y="21600"/>
                </a:lnTo>
                <a:lnTo>
                  <a:pt x="0" y="21600"/>
                </a:lnTo>
                <a:close/>
              </a:path>
              <a:path fill="lightenLess" w="57677" h="21600">
                <a:moveTo>
                  <a:pt x="0" y="0"/>
                </a:moveTo>
                <a:lnTo>
                  <a:pt x="57677" y="0"/>
                </a:lnTo>
                <a:lnTo>
                  <a:pt x="56277" y="1400"/>
                </a:lnTo>
                <a:lnTo>
                  <a:pt x="1400" y="1400"/>
                </a:lnTo>
                <a:close/>
              </a:path>
              <a:path fill="darken" w="57677" h="21600">
                <a:moveTo>
                  <a:pt x="57677" y="0"/>
                </a:moveTo>
                <a:lnTo>
                  <a:pt x="57677" y="21600"/>
                </a:lnTo>
                <a:lnTo>
                  <a:pt x="56277" y="20200"/>
                </a:lnTo>
                <a:lnTo>
                  <a:pt x="56277" y="1400"/>
                </a:lnTo>
                <a:close/>
              </a:path>
              <a:path fill="darkenLess" w="57677" h="21600">
                <a:moveTo>
                  <a:pt x="57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77" y="20200"/>
                </a:lnTo>
                <a:close/>
              </a:path>
              <a:path fill="lighten" w="57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77" h="21600">
                <a:moveTo>
                  <a:pt x="28838" y="3837"/>
                </a:moveTo>
                <a:lnTo>
                  <a:pt x="31415" y="6448"/>
                </a:lnTo>
                <a:lnTo>
                  <a:pt x="31415" y="4707"/>
                </a:lnTo>
                <a:lnTo>
                  <a:pt x="33190" y="4707"/>
                </a:lnTo>
                <a:lnTo>
                  <a:pt x="33190" y="8224"/>
                </a:lnTo>
                <a:lnTo>
                  <a:pt x="35801" y="10800"/>
                </a:lnTo>
                <a:lnTo>
                  <a:pt x="34148" y="10800"/>
                </a:lnTo>
                <a:lnTo>
                  <a:pt x="34148" y="17989"/>
                </a:lnTo>
                <a:lnTo>
                  <a:pt x="23529" y="17989"/>
                </a:lnTo>
                <a:lnTo>
                  <a:pt x="23529" y="10800"/>
                </a:lnTo>
                <a:lnTo>
                  <a:pt x="21875" y="10800"/>
                </a:lnTo>
                <a:close/>
              </a:path>
              <a:path fill="darkenLess" w="57677" h="21600">
                <a:moveTo>
                  <a:pt x="31415" y="6448"/>
                </a:moveTo>
                <a:lnTo>
                  <a:pt x="31415" y="4707"/>
                </a:lnTo>
                <a:lnTo>
                  <a:pt x="33190" y="4707"/>
                </a:lnTo>
                <a:lnTo>
                  <a:pt x="33190" y="8224"/>
                </a:lnTo>
                <a:close/>
              </a:path>
              <a:path fill="darkenLess" w="57677" h="21600">
                <a:moveTo>
                  <a:pt x="27916" y="14299"/>
                </a:moveTo>
                <a:lnTo>
                  <a:pt x="29761" y="14299"/>
                </a:lnTo>
                <a:lnTo>
                  <a:pt x="29761" y="17989"/>
                </a:lnTo>
                <a:lnTo>
                  <a:pt x="34148" y="17989"/>
                </a:lnTo>
                <a:lnTo>
                  <a:pt x="34148" y="10800"/>
                </a:lnTo>
                <a:lnTo>
                  <a:pt x="23529" y="10800"/>
                </a:lnTo>
                <a:lnTo>
                  <a:pt x="23529" y="17989"/>
                </a:lnTo>
                <a:lnTo>
                  <a:pt x="27916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3:44:58Z</dcterms:created>
  <dc:creator>Ася</dc:creator>
  <dc:description/>
  <dc:language>en-US</dc:language>
  <cp:lastModifiedBy>BLACKGIRL</cp:lastModifiedBy>
  <dcterms:modified xsi:type="dcterms:W3CDTF">2010-01-29T23:16:12Z</dcterms:modified>
  <cp:revision>5</cp:revision>
  <dc:subject/>
  <dc:title>ЛЕКСИКА</dc:title>
</cp:coreProperties>
</file>